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D85C8-9D90-47CC-B56D-60FC3C5D6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8BE38-CA20-4E3B-8D6F-4AAB9468D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955E0-B442-4A1C-8243-5D45DB125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814E7-49F9-4659-AFA9-46B1E077D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027ACE-C618-45B2-B041-E7FFF3314E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C713E-FEB1-45AB-81FE-62381C719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995CD-8BB9-443E-AC47-852F921B5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0AAD7-CFF2-43D7-927F-EF36FDFF1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A9035-E319-44FE-B587-75F8497E7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94860-A982-4BFD-ACED-2C8F446C5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AF5A7-1DEA-4DDC-89D9-CA637ED0B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77A38-E350-499F-BEA7-DADF933B9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3D041-BD30-4239-BDA6-EE0CF19F0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D72C1-ED7A-45A6-B3C3-999CD4451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B0348-6A95-4075-9859-040C5880A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D2185-EBFF-4CC0-BE86-AB393C5E0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ABEBD6-B57F-4B25-9D96-BA851CE8D4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218E0-F863-4EB1-A150-5CE629228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2E072-95C9-4B55-872F-1DCF229A9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FDE10-3641-4559-B8F7-0534ED6EA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2BBEC-153C-499F-A126-97CE32742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72E01-1832-4884-8866-817700FA7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58833-D021-4E7A-BB6A-AE18AC943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B66B6-BE75-432C-92DB-935312EC2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3C41-1BC8-4723-BA66-6B644EAB781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B6D8-8D75-4ADE-8062-EEA298B1802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lternanza scuola-lavoro</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 Alternanza “classica”</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2) valorizzare l’operato dei servizi camerali e delle agenzie di sistema  a supporto dell’alternanza scuola-lavoro e dell’orientamento</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investire in ambito camerale nelle risorse umane e consolidare le forme di collaborazione tra le aree funzionali delle C.C.I.A.A.  coinvolte nelle attività relative all’alternanza scuola lavoro per consolidare il ruolo acquisito a livello regionale per l’orientamento al mondo del lavoro, la selezione dei progetti, l’assistenza alle scuole e il monitoraggio delle esperienze di alternanza; è possibile inoltre sviluppare servizi per la ricerca di imprese disponibili per tirocini.</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va sostenuta l’attività delle agenzie di sistema che si sono distinte in particolare per l’effettuazione di corsi di formazione sulle tematiche dell'alternanza scuola-lavoro rivolti alle figure tutoriali, e che possono contribuire a:</a:t>
            </a:r>
            <a:endParaRPr b="0" lang="en-US" sz="1600" spc="-1" strike="noStrike">
              <a:solidFill>
                <a:srgbClr val="003366"/>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analisi dell’evoluzione del mercato del lavoro</a:t>
            </a:r>
            <a:endParaRPr b="0" lang="en-US" sz="1600" spc="-1" strike="noStrike">
              <a:solidFill>
                <a:srgbClr val="003366"/>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strumenti d'analisi dell'efficacia dell'alternanza scuola-lavoro</a:t>
            </a:r>
            <a:endParaRPr b="0" lang="en-US" sz="1600" spc="-1" strike="noStrike">
              <a:solidFill>
                <a:srgbClr val="003366"/>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sistemi di certificazione delle competenze</a:t>
            </a:r>
            <a:endParaRPr b="0" lang="en-US" sz="1600" spc="-1" strike="noStrike">
              <a:solidFill>
                <a:srgbClr val="003366"/>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1. La CCIAA di Rimini e il premio </a:t>
            </a:r>
            <a:br>
              <a:rPr sz="3200"/>
            </a:br>
            <a:r>
              <a:rPr b="1" lang="en-US" sz="3200" spc="-1" strike="noStrike">
                <a:solidFill>
                  <a:srgbClr val="006666"/>
                </a:solidFill>
                <a:latin typeface="Times New Roman"/>
              </a:rPr>
              <a:t>“club delle imprese educative e formative”</a:t>
            </a:r>
            <a:br>
              <a:rPr sz="3200"/>
            </a:br>
            <a:endParaRPr b="1" lang="en-US" sz="32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alità: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icare e riconoscere iniziative meritevoli in materia di alternanza scuola/lavor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ttere in evidenza e condividere esempi di politiche e migliori pratiche nel campo dell’imprenditorialità;</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sibilizzare l’opinione pubblica sul ruolo degli imprenditori nella società e nella formazione dei giovani;</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2. La CCIAA di Rimini e il premio </a:t>
            </a:r>
            <a:br>
              <a:rPr sz="3200"/>
            </a:br>
            <a:r>
              <a:rPr b="1" lang="en-US" sz="3200" spc="-1" strike="noStrike">
                <a:solidFill>
                  <a:srgbClr val="006666"/>
                </a:solidFill>
                <a:latin typeface="Times New Roman"/>
              </a:rPr>
              <a:t>“club delle imprese educative e formative”</a:t>
            </a:r>
            <a:br>
              <a:rPr sz="3200"/>
            </a:b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remio: riconoscimento alle imprese impegnate in esperienze di alternanza scuola/mondo del lavoro/scuola =&gt;visita, testimonianza in aula, project work, simulinpresa, stag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I premi conferiti consistono i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1) Diploma della Camera di Commercio “Club delle imprese educative e formativ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2) Premio in denaro, dell’ammontare di € 3.000,00,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1. La CCIAA di Ferrara e i Percorsi di Inserimento Lavorativo (PIL)</a:t>
            </a:r>
            <a:br>
              <a:rPr sz="3200"/>
            </a:br>
            <a:br>
              <a:rPr sz="3200"/>
            </a:br>
            <a:endParaRPr b="1" lang="en-US" sz="3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copo: </a:t>
            </a:r>
            <a:r>
              <a:rPr b="0" lang="en-US" sz="2400" spc="-1" strike="noStrike">
                <a:solidFill>
                  <a:srgbClr val="003366"/>
                </a:solidFill>
                <a:latin typeface="Arial"/>
              </a:rPr>
              <a:t>realizzare l’integrazione della fase conclusiva del percorso universitario con l’avvio di una prima, piena, esperienza lavorativ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 progetti annuali PIL prevedono l’inserimento di un gruppo di laureandi in aziende ed enti con un contratto di lavoro della durata di 12 mesi, preceduto da un ciclo formativo specifico di aula (120 ore) e stage (380 ore) che si sviluppa nell’arco di due trimestri.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2. La CCIAA di Ferrara e i Percorsi di Inserimento Lavorativo (PIL)</a:t>
            </a:r>
            <a:br>
              <a:rPr sz="3200"/>
            </a:br>
            <a:br>
              <a:rPr sz="3200"/>
            </a:br>
            <a:endParaRPr b="1" lang="en-US" sz="3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Partner: </a:t>
            </a:r>
            <a:r>
              <a:rPr b="0" lang="it-IT" sz="2000" spc="-1" strike="noStrike">
                <a:solidFill>
                  <a:srgbClr val="003366"/>
                </a:solidFill>
                <a:latin typeface="Arial"/>
              </a:rPr>
              <a:t>Il progetto viene gestito nell’ambito di una convenzione i cui partner, oltre al Job Centre dell’Università di Ferrara, sono: il Consorzio Provinciale di Formazione (CPF) e il Centro di Documentazione e Studi economici di Ferrara (CDS). L’iniziativa ha potuto contare sul sostegno dell’Assessorato per la Formazione Professionale della Provincia di Ferrara, con l’inserimento nei programmi del Fondo Sociale Europeo per la “formazione superior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La CCIAA di Ferrara co-finanzia i progetti PIL nella parte di formazione e del tirocinio, con l’intento di promuovere iniziative che coinvolgono settori d’interesse per l’economia locale. .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getto EU MATE: Incoraggiare la mobilità degli apprendisti in Europa </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n eventuale coinvolgimento del sistema camerale nel prosieguo del progetto, anche a medio termine,  potrebbe rivelarsi efficace, ad esempio, nel: </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tribuire nella fase di sensibilizzazione culturale per accrescere l’interesse sulla rilevanza delle esperienze di mobilità europea, </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re indicazioni di eventuali possibili adeguamenti alla regolamentazione regionale vigente relativa alla formazione in apprendistato, per facilitare la realizzazione di scambi </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dividuare  finanziamenti, anche circoscritti, ma mirati, per progetti pilota</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ngere da snodo tra enti di formazione, imprese e studenti/apprendisti per l‘organizzazione di progetti di mobilità</a:t>
            </a:r>
            <a:endParaRPr b="0" lang="en-US" sz="1800" spc="-1" strike="noStrike">
              <a:solidFill>
                <a:srgbClr val="003366"/>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oltre, una possibile evoluzione del progetto potrebbe prevedere forme di alternanza scuola-lavoro da realizzare all’estero. </a:t>
            </a:r>
            <a:endParaRPr b="0" lang="en-US" sz="1800" spc="-1" strike="noStrike">
              <a:solidFill>
                <a:srgbClr val="003366"/>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6666"/>
                </a:solidFill>
                <a:latin typeface="Arial"/>
              </a:rPr>
              <a:t>piano triennale regionale dell'offerta di formazione alta, specialistica e superiore</a:t>
            </a:r>
            <a:br>
              <a:rPr sz="3200"/>
            </a:b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oli Tecnici regionali</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iacenza: logistica e trasporti,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arma: agroalimentare;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Reggio Emilia: meccatronica;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Modena: meccanica e materiali;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Bologna: automazione meccanica;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errara: abitare, edilizia, recupero, nuovi materiali;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Ravenna: energia e ambiente;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orlì Cesena: ICT, innovazione organizzativa;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Rimini: turismo e benessere.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iano triennale regionale dell'offerta di formazione alta, specialistica e superiore</a:t>
            </a:r>
            <a:br>
              <a:rPr sz="3200"/>
            </a:br>
            <a:endParaRPr b="1" lang="en-US" sz="32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TS: Alle  fondazioni di partecipazione, possono partecipare le CCIAA, anche se non esplicitamente menzionate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gt; potrebbe essere un’opportunità per valorizzare  l’esperienza maturata nell’ambito dell’alternanza scuola-lavoro dal sistema camerale e il ruolo di analisi dei fabbisogni professionali delle imprese acquisito sin dall’avvio delle indagini excelsior.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FOA, su incarico di Unioncamere italiana, sta elaborando una metodologia che partendo dai dati di excelsior, e superando le tradizionali modalità di utilizzo degli stessi a fini di orientamento al lavoro, mira ad affinare la rilevazione dei fabbisogni professionali delle imprese al fine specifico di indirizzare efficacemente  la programmazione dell’offerta formativa. In tal modo si intende offrire una strumentazione ad hoc per consentire alle Camere, che intendano candidarsi ad inserirsi nei poli tecnici attraverso la partecipazione agli ITS, di giocare un ruolo chiave nell’ambito programmatori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 Alternanza “classica”</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1) accordi fra le istituzioni competenti nel campo dell’istruzione/formazione e il sistema camerale, per fornire un quadro di riferimento per la programmazione degli interventi a favore dell’alternanza scuola-lavoro.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Hp:a)  finanziare un numero di progetti di alternanza scuola-lavoro di tipo tradizionale  tale da mantenere un presidio del sistema camerale in tale ambito (es. un progetto per provincia, con finanziamenti camerali che potrebbero confluire nel capitolo di bilancio “progetti di sistema” di Unioncamere E.R.).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b) -</a:t>
            </a:r>
            <a:r>
              <a:rPr b="0" lang="it-IT" sz="1600" spc="-1" strike="noStrike">
                <a:solidFill>
                  <a:srgbClr val="003366"/>
                </a:solidFill>
                <a:latin typeface="Arial"/>
              </a:rPr>
              <a:t>	</a:t>
            </a:r>
            <a:r>
              <a:rPr b="0" lang="it-IT" sz="1600" spc="-1" strike="noStrike">
                <a:solidFill>
                  <a:srgbClr val="003366"/>
                </a:solidFill>
                <a:latin typeface="Arial"/>
              </a:rPr>
              <a:t>stabilire dei premi per i protagonisti dei progetti di alternanza che costituiscono buone prassi (scuole, imprese, come per certi versi avviene nell’esperienza della CCIAA di Rimini relativa al club delle imprese educative e formative),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a:t>
            </a:r>
            <a:r>
              <a:rPr b="0" lang="it-IT" sz="1600" spc="-1" strike="noStrike">
                <a:solidFill>
                  <a:srgbClr val="003366"/>
                </a:solidFill>
                <a:latin typeface="Arial"/>
              </a:rPr>
              <a:t>	</a:t>
            </a:r>
            <a:r>
              <a:rPr b="0" lang="it-IT" sz="1600" spc="-1" strike="noStrike">
                <a:solidFill>
                  <a:srgbClr val="003366"/>
                </a:solidFill>
                <a:latin typeface="Arial"/>
              </a:rPr>
              <a:t>finanziare progetti di alternanza scuola-lavoro che prevedano periodi di tirocinio all’estero. Tale iniziativa potrebbe contemplare il coinvolgimento delle CCI all’estero ed essere sviluppata nell’ambito del progetto EU-Mate,</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a:t>
            </a:r>
            <a:r>
              <a:rPr b="0" lang="it-IT" sz="1600" spc="-1" strike="noStrike">
                <a:solidFill>
                  <a:srgbClr val="003366"/>
                </a:solidFill>
                <a:latin typeface="Arial"/>
              </a:rPr>
              <a:t>	</a:t>
            </a:r>
            <a:r>
              <a:rPr b="0" lang="it-IT" sz="1600" spc="-1" strike="noStrike">
                <a:solidFill>
                  <a:srgbClr val="003366"/>
                </a:solidFill>
                <a:latin typeface="Arial"/>
              </a:rPr>
              <a:t>finanziare progetti per laureandi e neo-laureati che prevedono modalità di alternanza scuola-lavoro con una finalizzazione fortemente orientativa al lavoro, in modo analogo a quanto avviene per il progetto PIL  che coinvolge la CCIAA di Ferrara.</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5:23:06Z</dcterms:created>
  <dc:creator>lenzi</dc:creator>
  <dc:description/>
  <dc:language>en-US</dc:language>
  <cp:lastModifiedBy>lenzi</cp:lastModifiedBy>
  <dcterms:modified xsi:type="dcterms:W3CDTF">2008-06-25T08:26:32Z</dcterms:modified>
  <cp:revision>6</cp:revision>
  <dc:subject/>
  <dc:title>Alternanza scuola-lavoro</dc:title>
</cp:coreProperties>
</file>